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B01D-330F-42AE-A5E5-B280B90B8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E8CB-25D6-4333-A0F1-98CCB961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4D1B-9EDF-4EF9-9F3B-2C50C89D4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46E7-AAC0-44F4-BD17-B22758901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6129-CC14-4DD5-85B1-BF1D91BE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3D00-A8C7-4087-92C2-EC92AC9F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0624-07C4-4029-B3E5-ABFC047E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9FFE-DDEB-4AEF-8522-422D4F96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B934-F3DA-413F-9D6A-DAA9BC93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D85F-8EB3-4F3A-BCD3-D3228CC4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5FE9-1CAC-4C35-8C20-4A1ED74D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0D54-CCD3-421E-B3DB-288C40A4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C570-9EAC-420F-92BB-BAC04CF88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lasszone.com/cz/books/msmath_1_na/book_home.htm?state=MD" TargetMode="External"/><Relationship Id="rId2" Type="http://schemas.openxmlformats.org/officeDocument/2006/relationships/hyperlink" Target="http://www.classzone.com/cz/books/msmath_1_na/book_home.htm?state=MD" TargetMode="External"/><Relationship Id="rId3" Type="http://schemas.openxmlformats.org/officeDocument/2006/relationships/hyperlink" Target="http://www.brainpop.com/math/numbersandoperations/orderofoperations/" TargetMode="External"/><Relationship Id="rId4" Type="http://schemas.openxmlformats.org/officeDocument/2006/relationships/hyperlink" Target="http://www.brainpop.com/math/numbersandoperations/orderofoperations/" TargetMode="External"/><Relationship Id="rId5" Type="http://schemas.openxmlformats.org/officeDocument/2006/relationships/hyperlink" Target="http://www.funbrain.com/algebra/index.html" TargetMode="External"/><Relationship Id="rId6" Type="http://schemas.openxmlformats.org/officeDocument/2006/relationships/hyperlink" Target="http://www.funbrain.com/algebra/index.html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99"/>
                </a:solidFill>
                <a:latin typeface="Arial"/>
              </a:rPr>
              <a:t>Opener:</a:t>
            </a: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  Complete the following problems involving whole numb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1.)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89 + 831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2.)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 x 5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3.)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12 - 1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440" y="9907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1 </a:t>
            </a:r>
            <a:r>
              <a:rPr b="0" lang="en-US" sz="3600" spc="-1" strike="noStrike">
                <a:solidFill>
                  <a:srgbClr val="f6fca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14040" y="3200040"/>
            <a:ext cx="76201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Section 1.1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Students will identify and apply the Order of Operations to evaluate 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udents will identify and apply the Order of Operations to evaluate expr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Operations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athematical process +, -, x, 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Evaluate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alculate mathematical value; so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Expressions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ymbols representing a value 15x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Grouping Symbols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hows what operation needs to be done first (  ) or brackets [ 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The order of operations help us guarantee that people from all over the world always get the same answer when solving the same math problem.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udents will identify and apply the Order of Operations to evaluate express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k about what’s wrong with the following situation…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Your uncle takes you and 3 friends to the movies.  Tickets cost $9 each and he agrees to purchase a drink for everyone at $4 each and two large tubs of popcorn at $7 each.  What is the total cost for your unc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4 x $9 + 4 x $4 + 2 x $7 =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36 + 4 x $4 + 2 x $7 =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40 x $4 + 2 x $7 =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$160 + 2 x $7 =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$162 x $7 = 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Is this answer reasona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udents will identify and apply the Order of Operations to evaluate express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this is why we need an order of operations, which is: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3399ff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ff"/>
                </a:solidFill>
                <a:latin typeface="Arial"/>
              </a:rPr>
              <a:t>First, solve expressions inside </a:t>
            </a:r>
            <a:r>
              <a:rPr b="1" lang="en-US" sz="2300" spc="-1" strike="noStrike">
                <a:solidFill>
                  <a:srgbClr val="ff6600"/>
                </a:solidFill>
                <a:latin typeface="Arial"/>
              </a:rPr>
              <a:t>grouping symbols</a:t>
            </a:r>
            <a:r>
              <a:rPr b="1" lang="en-US" sz="2300" spc="-1" strike="noStrike">
                <a:solidFill>
                  <a:srgbClr val="3399ff"/>
                </a:solidFill>
                <a:latin typeface="Arial"/>
              </a:rPr>
              <a:t> (  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3399ff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ff"/>
                </a:solidFill>
                <a:latin typeface="Arial"/>
              </a:rPr>
              <a:t>Evaluate </a:t>
            </a:r>
            <a:r>
              <a:rPr b="1" lang="en-US" sz="2300" spc="-1" strike="noStrike">
                <a:solidFill>
                  <a:srgbClr val="ff6600"/>
                </a:solidFill>
                <a:latin typeface="Arial"/>
              </a:rPr>
              <a:t>exponents</a:t>
            </a:r>
            <a:r>
              <a:rPr b="1" lang="en-US" sz="2300" spc="-1" strike="noStrike">
                <a:solidFill>
                  <a:srgbClr val="3399ff"/>
                </a:solidFill>
                <a:latin typeface="Arial"/>
              </a:rPr>
              <a:t> like a</a:t>
            </a:r>
            <a:r>
              <a:rPr b="1" lang="en-US" sz="2300" spc="-1" strike="noStrike" baseline="30000">
                <a:solidFill>
                  <a:srgbClr val="3399ff"/>
                </a:solidFill>
                <a:latin typeface="Arial"/>
              </a:rPr>
              <a:t>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3399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ff"/>
                </a:solidFill>
                <a:latin typeface="Arial"/>
              </a:rPr>
              <a:t>Then, </a:t>
            </a:r>
            <a:r>
              <a:rPr b="1" lang="en-US" sz="2300" spc="-1" strike="noStrike">
                <a:solidFill>
                  <a:srgbClr val="ff6600"/>
                </a:solidFill>
                <a:latin typeface="Arial"/>
              </a:rPr>
              <a:t>multiply and divide</a:t>
            </a:r>
            <a:r>
              <a:rPr b="1" lang="en-US" sz="2300" spc="-1" strike="noStrike">
                <a:solidFill>
                  <a:srgbClr val="3399ff"/>
                </a:solidFill>
                <a:latin typeface="Arial"/>
              </a:rPr>
              <a:t> from </a:t>
            </a: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left to righ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3399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ff"/>
                </a:solidFill>
                <a:latin typeface="Arial"/>
              </a:rPr>
              <a:t>Last, </a:t>
            </a:r>
            <a:r>
              <a:rPr b="1" lang="en-US" sz="2300" spc="-1" strike="noStrike">
                <a:solidFill>
                  <a:srgbClr val="ff6600"/>
                </a:solidFill>
                <a:latin typeface="Arial"/>
              </a:rPr>
              <a:t>add and subtract</a:t>
            </a:r>
            <a:r>
              <a:rPr b="1" lang="en-US" sz="2300" spc="-1" strike="noStrike">
                <a:solidFill>
                  <a:srgbClr val="3399ff"/>
                </a:solidFill>
                <a:latin typeface="Arial"/>
              </a:rPr>
              <a:t> from </a:t>
            </a: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left to righ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udents will identify and apply the Order of Operations to evaluate expressions</a:t>
            </a: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We can use brackets (like this       ) to identify which operation we are evaluating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Example 1: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  Example 2: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     Example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÷ (11 – 5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 + 7 x 2 - 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20 – (3 x 5)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÷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Example 4: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  Example 5: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     Example 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x 1 +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1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÷ 2 + 3 x 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8" idx="1"/>
            <a:endCxn id="48" idx="1"/>
          </p:cNvCxnSpPr>
          <p:nvPr/>
        </p:nvCxnSpPr>
        <p:spPr>
          <a:xfrm>
            <a:off x="456840" y="32382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0" name=""/>
          <p:cNvGrpSpPr/>
          <p:nvPr/>
        </p:nvGrpSpPr>
        <p:grpSpPr>
          <a:xfrm>
            <a:off x="5715000" y="457200"/>
            <a:ext cx="457200" cy="152280"/>
            <a:chOff x="5715000" y="457200"/>
            <a:chExt cx="457200" cy="152280"/>
          </a:xfrm>
        </p:grpSpPr>
        <p:sp>
          <p:nvSpPr>
            <p:cNvPr id="51" name=""/>
            <p:cNvSpPr/>
            <p:nvPr/>
          </p:nvSpPr>
          <p:spPr>
            <a:xfrm>
              <a:off x="5715000" y="457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715000" y="6094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172200" y="457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4" name=""/>
          <p:cNvGraphicFramePr/>
          <p:nvPr/>
        </p:nvGraphicFramePr>
        <p:xfrm>
          <a:off x="3962520" y="4952880"/>
          <a:ext cx="895320" cy="8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4952880"/>
                    <a:ext cx="89532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" name=""/>
          <p:cNvGrpSpPr/>
          <p:nvPr/>
        </p:nvGrpSpPr>
        <p:grpSpPr>
          <a:xfrm>
            <a:off x="1447920" y="2666880"/>
            <a:ext cx="609120" cy="152640"/>
            <a:chOff x="1447920" y="2666880"/>
            <a:chExt cx="609120" cy="152640"/>
          </a:xfrm>
        </p:grpSpPr>
        <p:sp>
          <p:nvSpPr>
            <p:cNvPr id="57" name=""/>
            <p:cNvSpPr/>
            <p:nvPr/>
          </p:nvSpPr>
          <p:spPr>
            <a:xfrm>
              <a:off x="1447920" y="2666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47920" y="281952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57040" y="2666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85800" y="3048120"/>
            <a:ext cx="609120" cy="75960"/>
            <a:chOff x="685800" y="3048120"/>
            <a:chExt cx="609120" cy="75960"/>
          </a:xfrm>
        </p:grpSpPr>
        <p:sp>
          <p:nvSpPr>
            <p:cNvPr id="61" name=""/>
            <p:cNvSpPr/>
            <p:nvPr/>
          </p:nvSpPr>
          <p:spPr>
            <a:xfrm>
              <a:off x="685800" y="30481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85800" y="312408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94920" y="30481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 1 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33160" y="1980720"/>
            <a:ext cx="78483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1 on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Workbook (PW) page 7 odd problems 1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PW pg.7 1-11 odd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#5 is a challenge probl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s 2,3 &amp; 4 did not get to slide 6 so they do not have homework – we will continue tom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Extension: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assZone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Animated M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hapter 1 – Selecting an Operation)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rainpop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on Order of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Funbrain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- Working Back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17:55:35Z</dcterms:created>
  <dc:creator>deanne elizabeth mcgrath</dc:creator>
  <dc:description/>
  <dc:language>en-US</dc:language>
  <cp:lastModifiedBy>deanne elizabeth mcgrath</cp:lastModifiedBy>
  <dcterms:modified xsi:type="dcterms:W3CDTF">2010-09-07T17:57:48Z</dcterms:modified>
  <cp:revision>1</cp:revision>
  <dc:subject/>
  <dc:title>Slide 1</dc:title>
</cp:coreProperties>
</file>